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020-9AD6-4D7C-AF1D-296CF0CA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C09-451A-4273-86C6-F3B1883D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688-EB2B-4B95-A9EC-C1B8BBC1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284-E504-4671-A1EB-6BCF2F97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040-BF9E-45DB-9559-EDA63D73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C4E-41E9-4A07-851F-F76E6FF9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4F8-0F86-4588-A56E-9B61FC4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7D3-1B21-426B-8DBA-52694DB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C9E-1E76-443B-A2B8-CBFF151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783-9745-4E78-856F-B32DB12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522-591F-4C0D-8F69-EB7827D3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D1D-093F-4FBB-95D5-334C9079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996-C9F6-42B3-8C27-19791A120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495680"/>
            <a:ext cx="9144000" cy="236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28954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942920" y="2705040"/>
            <a:ext cx="3810240" cy="1905120"/>
          </a:xfrm>
          <a:custGeom>
            <a:avLst/>
            <a:gdLst>
              <a:gd name="textAreaLeft" fmla="*/ 837720 w 3810240"/>
              <a:gd name="textAreaRight" fmla="*/ 2972520 w 3810240"/>
              <a:gd name="textAreaTop" fmla="*/ 418680 h 1905120"/>
              <a:gd name="textAreaBottom" fmla="*/ 1486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743200"/>
            <a:ext cx="16765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5219640" y="3162240"/>
            <a:ext cx="3429000" cy="914400"/>
          </a:xfrm>
          <a:custGeom>
            <a:avLst/>
            <a:gdLst>
              <a:gd name="textAreaLeft" fmla="*/ 753840 w 3429000"/>
              <a:gd name="textAreaRight" fmla="*/ 2675160 w 3429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1981080"/>
            <a:ext cx="175248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11379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496280" y="2362320"/>
            <a:ext cx="153036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1752480"/>
            <a:ext cx="2927520" cy="387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4382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5410080" y="3962520"/>
            <a:ext cx="2216160" cy="243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352680" y="3886200"/>
            <a:ext cx="1905120" cy="156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4114800" y="3200400"/>
            <a:ext cx="803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15:40Z</dcterms:created>
  <dc:creator>user</dc:creator>
  <dc:description/>
  <dc:language>en-US</dc:language>
  <cp:lastModifiedBy>user</cp:lastModifiedBy>
  <dcterms:modified xsi:type="dcterms:W3CDTF">2010-06-29T18:13:00Z</dcterms:modified>
  <cp:revision>5</cp:revision>
  <dc:subject/>
  <dc:title>Slide 1</dc:title>
</cp:coreProperties>
</file>